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808601"/>
        <c:axId val="63711304"/>
      </c:barChart>
      <c:catAx>
        <c:axId val="218086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11304"/>
        <c:crosses val="autoZero"/>
        <c:auto val="1"/>
        <c:lblAlgn val="ctr"/>
        <c:lblOffset val="100"/>
        <c:noMultiLvlLbl val="0"/>
      </c:catAx>
      <c:valAx>
        <c:axId val="637113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086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6267-211E-48A6-BD7C-4F2878E6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9DA9-E139-4D08-A577-5794B40F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23FF-8839-4DB6-B2B9-ADCC3453B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54FB-BF30-496D-9D7D-8A675FB94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8D97-14F4-4D64-983B-0E10AA6B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6960-8DC2-4B1F-90AB-2C45EBB9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B598-BB6A-429F-BBAE-934E1E26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9AE3-1BFA-4537-9B61-A8E1E150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F8EA-DCF4-4518-B290-57EA8CD7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8382-60F5-4FA2-82D1-D75B8068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5EF6-5B33-4909-99E3-6FCB8DA1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8D13-1E26-4F83-BE3C-E57AE716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211C0-78AF-4DC9-983B-4AC06DEFE8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