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9568"/>
        <c:axId val="26492222"/>
      </c:barChart>
      <c:catAx>
        <c:axId val="37495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92222"/>
        <c:crosses val="autoZero"/>
        <c:auto val="1"/>
        <c:lblAlgn val="ctr"/>
        <c:lblOffset val="100"/>
        <c:noMultiLvlLbl val="0"/>
      </c:catAx>
      <c:valAx>
        <c:axId val="26492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95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5095-3F01-442D-B1D6-06642DBE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A43-8FB4-4546-BEE2-9486C7A9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08E-DA55-4FB0-B885-EC8ECDD5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A375-6DDE-4F7A-92DB-4AE91308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5E8A-3C46-4D8E-BBC7-F75210A9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CE2-1F49-4348-BD54-519DDBE5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CD1-D843-422A-8D9D-39480309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BADD-0640-4B6B-8078-90B9E5C6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7B58-AF60-4A7D-B6AB-6B21C1B0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BFE-A358-4203-B4A4-B223AD33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3045-4BE5-4DCC-816C-A3C54F36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7C1-B374-45A6-9436-6AB9FE68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1A600-51C1-4DA1-99CF-D74664046C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